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9CB-2D08-4D37-A9AD-E0EC1F54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B77-632B-4209-BAB3-0B4765E0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8E3E-67C1-402E-A652-308C4ED6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B1B-5A29-41EF-800F-7F80750E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C4E-21EA-4C9A-89FD-D2DD7D71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E2B7-195C-4B49-B08B-1B0D9DC0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F706-98AF-4095-82EF-1EC20CA9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5D7F-E0A9-4495-B959-8611F934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F5DE-27EC-4381-8E55-0D744C1D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7824-5F1B-4584-ABE1-898633F9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8720-9587-45B5-8492-B3C969C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24B-7055-4949-896A-B0AD4F2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E9BF-C32D-47CC-B375-450B0B6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1742-3D88-47C8-9540-76CFD06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96C8-AC68-4D6B-B8D4-7032E8C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F631-729D-4066-94B1-DAE49780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861-74AC-40FD-BCFD-896166CE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3EB-8B25-4D4A-9AA8-B097854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F4C-7B05-4B44-96B7-1A7613A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E07-63F8-407C-B721-FD12456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CA0-3A52-4E97-8D9C-D9706C4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F68-0472-4FF6-A5FF-54E1E2D3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6CB-0B26-4BF8-8001-A48420C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258-45B5-412E-BDEA-C2F150B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45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0"/>
                <a:ext cx="9132840" cy="8571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0" y="19080"/>
                <a:ext cx="9105840" cy="6742080"/>
                <a:chOff x="0" y="19080"/>
                <a:chExt cx="9105840" cy="6742080"/>
              </a:xfrm>
            </p:grpSpPr>
            <p:grpSp>
              <p:nvGrpSpPr>
                <p:cNvPr id="5" name=""/>
                <p:cNvGrpSpPr/>
                <p:nvPr/>
              </p:nvGrpSpPr>
              <p:grpSpPr>
                <a:xfrm>
                  <a:off x="8373960" y="19080"/>
                  <a:ext cx="731880" cy="811080"/>
                  <a:chOff x="8373960" y="19080"/>
                  <a:chExt cx="731880" cy="811080"/>
                </a:xfrm>
              </p:grpSpPr>
              <p:sp>
                <p:nvSpPr>
                  <p:cNvPr id="6" name=""/>
                  <p:cNvSpPr/>
                  <p:nvPr/>
                </p:nvSpPr>
                <p:spPr>
                  <a:xfrm>
                    <a:off x="87105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373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901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87105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8291520" y="19080"/>
                  <a:ext cx="50760" cy="811080"/>
                  <a:chOff x="8291520" y="19080"/>
                  <a:chExt cx="50760" cy="8110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2915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915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7535880" y="19080"/>
                  <a:ext cx="733320" cy="811080"/>
                  <a:chOff x="7535880" y="19080"/>
                  <a:chExt cx="733320" cy="8110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7873920" y="1908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75358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79516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873920" y="474840"/>
                    <a:ext cx="4788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453440" y="19080"/>
                  <a:ext cx="48960" cy="811080"/>
                  <a:chOff x="7453440" y="19080"/>
                  <a:chExt cx="48960" cy="81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7453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453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6699240" y="19080"/>
                  <a:ext cx="731880" cy="811080"/>
                  <a:chOff x="6699240" y="19080"/>
                  <a:chExt cx="731880" cy="8110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70358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6992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1150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0358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" name=""/>
                <p:cNvGrpSpPr/>
                <p:nvPr/>
              </p:nvGrpSpPr>
              <p:grpSpPr>
                <a:xfrm>
                  <a:off x="6616800" y="19080"/>
                  <a:ext cx="48960" cy="811080"/>
                  <a:chOff x="6616800" y="19080"/>
                  <a:chExt cx="48960" cy="811080"/>
                </a:xfrm>
              </p:grpSpPr>
              <p:sp>
                <p:nvSpPr>
                  <p:cNvPr id="27" name=""/>
                  <p:cNvSpPr/>
                  <p:nvPr/>
                </p:nvSpPr>
                <p:spPr>
                  <a:xfrm>
                    <a:off x="6616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616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5861160" y="19080"/>
                  <a:ext cx="733320" cy="811080"/>
                  <a:chOff x="5861160" y="19080"/>
                  <a:chExt cx="733320" cy="81108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>
                    <a:off x="61992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58611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6276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61992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5780160" y="19080"/>
                  <a:ext cx="49320" cy="811080"/>
                  <a:chOff x="5780160" y="19080"/>
                  <a:chExt cx="49320" cy="81108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57801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57801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5024520" y="19080"/>
                  <a:ext cx="731880" cy="811080"/>
                  <a:chOff x="5024520" y="19080"/>
                  <a:chExt cx="731880" cy="8110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3611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50245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4403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3611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4943520" y="19080"/>
                  <a:ext cx="49320" cy="811080"/>
                  <a:chOff x="4943520" y="19080"/>
                  <a:chExt cx="49320" cy="8110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>
                    <a:off x="494352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494352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4186080" y="19080"/>
                  <a:ext cx="733680" cy="811080"/>
                  <a:chOff x="4186080" y="19080"/>
                  <a:chExt cx="733680" cy="811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4524480" y="1908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41860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6022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4524480" y="474840"/>
                    <a:ext cx="475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4105440" y="19080"/>
                  <a:ext cx="48960" cy="811080"/>
                  <a:chOff x="4105440" y="19080"/>
                  <a:chExt cx="48960" cy="81108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4105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105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349800" y="19080"/>
                  <a:ext cx="731520" cy="811080"/>
                  <a:chOff x="3349800" y="19080"/>
                  <a:chExt cx="731520" cy="8110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6860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3498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7656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6860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3268800" y="19080"/>
                  <a:ext cx="48960" cy="811080"/>
                  <a:chOff x="3268800" y="19080"/>
                  <a:chExt cx="48960" cy="8110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268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268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2511360" y="19080"/>
                  <a:ext cx="733320" cy="811080"/>
                  <a:chOff x="2511360" y="19080"/>
                  <a:chExt cx="733320" cy="8110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8494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5113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27520" y="396720"/>
                    <a:ext cx="31716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8494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2432160" y="19080"/>
                  <a:ext cx="48960" cy="811080"/>
                  <a:chOff x="2432160" y="19080"/>
                  <a:chExt cx="48960" cy="811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243216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43216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674720" y="19080"/>
                  <a:ext cx="731880" cy="811080"/>
                  <a:chOff x="1674720" y="19080"/>
                  <a:chExt cx="731880" cy="8110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201312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6747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9088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01312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1593720" y="19080"/>
                  <a:ext cx="50760" cy="811080"/>
                  <a:chOff x="1593720" y="19080"/>
                  <a:chExt cx="50760" cy="8110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15937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937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836640" y="19080"/>
                  <a:ext cx="733320" cy="811080"/>
                  <a:chOff x="836640" y="19080"/>
                  <a:chExt cx="733320" cy="8110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117468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366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2524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17468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755640" y="19080"/>
                  <a:ext cx="49320" cy="811080"/>
                  <a:chOff x="755640" y="19080"/>
                  <a:chExt cx="49320" cy="81108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7556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6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0" y="19080"/>
                  <a:ext cx="731880" cy="6742080"/>
                  <a:chOff x="0" y="19080"/>
                  <a:chExt cx="731880" cy="674208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19080"/>
                    <a:ext cx="731880" cy="811080"/>
                    <a:chOff x="0" y="19080"/>
                    <a:chExt cx="731880" cy="81108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336600" y="47484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336600" y="190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0" y="39672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14360" y="39672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0" y="853920"/>
                    <a:ext cx="731880" cy="54000"/>
                    <a:chOff x="0" y="853920"/>
                    <a:chExt cx="731880" cy="5400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0" y="853920"/>
                      <a:ext cx="31608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14360" y="853920"/>
                      <a:ext cx="3175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0" y="930240"/>
                    <a:ext cx="731880" cy="812880"/>
                    <a:chOff x="0" y="930240"/>
                    <a:chExt cx="731880" cy="812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36600" y="93024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0" y="130968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14360" y="130968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336600" y="13892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0" y="1765440"/>
                    <a:ext cx="731880" cy="55440"/>
                    <a:chOff x="0" y="1765440"/>
                    <a:chExt cx="731880" cy="5544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0" y="176544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14360" y="176544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0" y="1844640"/>
                    <a:ext cx="731880" cy="809640"/>
                    <a:chOff x="0" y="1844640"/>
                    <a:chExt cx="731880" cy="80964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336600" y="18446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0" y="222084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4360" y="222084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6600" y="230040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0" y="2678040"/>
                    <a:ext cx="731880" cy="55800"/>
                    <a:chOff x="0" y="2678040"/>
                    <a:chExt cx="731880" cy="5580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0" y="267804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14360" y="267804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0" y="2755800"/>
                    <a:ext cx="731880" cy="812880"/>
                    <a:chOff x="0" y="2755800"/>
                    <a:chExt cx="731880" cy="81288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6600" y="27558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0" y="31338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14360" y="31338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336600" y="321156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0" y="3591000"/>
                    <a:ext cx="731880" cy="55440"/>
                    <a:chOff x="0" y="3591000"/>
                    <a:chExt cx="731880" cy="554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0" y="35910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414360" y="35910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0" y="3670200"/>
                    <a:ext cx="731880" cy="809640"/>
                    <a:chOff x="0" y="3670200"/>
                    <a:chExt cx="731880" cy="80964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36600" y="36702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0" y="404640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14360" y="404640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36600" y="412596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0" y="4502160"/>
                    <a:ext cx="731880" cy="57240"/>
                    <a:chOff x="0" y="4502160"/>
                    <a:chExt cx="731880" cy="5724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0" y="450216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4360" y="450216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0" y="4581360"/>
                    <a:ext cx="731880" cy="809640"/>
                    <a:chOff x="0" y="4581360"/>
                    <a:chExt cx="731880" cy="80964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36600" y="458136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0" y="495936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4360" y="495936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36600" y="503712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0" y="5415120"/>
                    <a:ext cx="731880" cy="55440"/>
                    <a:chOff x="0" y="5415120"/>
                    <a:chExt cx="731880" cy="554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0" y="54151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14360" y="54151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0" y="5492880"/>
                    <a:ext cx="731880" cy="812520"/>
                    <a:chOff x="0" y="5492880"/>
                    <a:chExt cx="731880" cy="8125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36600" y="549288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0" y="5872320"/>
                      <a:ext cx="31608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14360" y="5872320"/>
                      <a:ext cx="31752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36600" y="595008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0" y="6327720"/>
                    <a:ext cx="731880" cy="433440"/>
                    <a:chOff x="0" y="6327720"/>
                    <a:chExt cx="731880" cy="433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36600" y="64072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0" y="63277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4360" y="63277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765000" y="857160"/>
                <a:ext cx="8367840" cy="5988240"/>
                <a:chOff x="765000" y="857160"/>
                <a:chExt cx="8367840" cy="5988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68240" y="85716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65000" y="857160"/>
                  <a:ext cx="0" cy="598824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B15D-B0A2-4644-B4D5-892CEB33672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16F0-4ED8-4459-8C9A-7236AE0D5B81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-1440"/>
            <a:ext cx="9144000" cy="6846840"/>
            <a:chOff x="-1440" y="-1440"/>
            <a:chExt cx="9144000" cy="6846840"/>
          </a:xfrm>
        </p:grpSpPr>
        <p:grpSp>
          <p:nvGrpSpPr>
            <p:cNvPr id="192" name=""/>
            <p:cNvGrpSpPr/>
            <p:nvPr/>
          </p:nvGrpSpPr>
          <p:grpSpPr>
            <a:xfrm>
              <a:off x="754200" y="932040"/>
              <a:ext cx="48960" cy="811080"/>
              <a:chOff x="754200" y="932040"/>
              <a:chExt cx="48960" cy="811080"/>
            </a:xfrm>
          </p:grpSpPr>
          <p:sp>
            <p:nvSpPr>
              <p:cNvPr id="193" name=""/>
              <p:cNvSpPr/>
              <p:nvPr/>
            </p:nvSpPr>
            <p:spPr>
              <a:xfrm>
                <a:off x="754200" y="1387440"/>
                <a:ext cx="48960" cy="3556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200" y="932040"/>
                <a:ext cx="48960" cy="3538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-1440" y="-1440"/>
              <a:ext cx="9144000" cy="6846840"/>
              <a:chOff x="-1440" y="-1440"/>
              <a:chExt cx="9144000" cy="68468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54200" y="17640"/>
                <a:ext cx="48960" cy="811080"/>
                <a:chOff x="754200" y="17640"/>
                <a:chExt cx="48960" cy="811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5420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20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-1440" y="-1440"/>
                <a:ext cx="9144000" cy="6846840"/>
                <a:chOff x="-1440" y="-1440"/>
                <a:chExt cx="9144000" cy="68468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0"/>
                  <a:ext cx="762120" cy="6845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-1440" y="-1440"/>
                  <a:ext cx="9144000" cy="19065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8372520" y="17640"/>
                  <a:ext cx="731880" cy="811080"/>
                  <a:chOff x="8372520" y="17640"/>
                  <a:chExt cx="731880" cy="8110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870912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372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7883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70912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8290080" y="17640"/>
                  <a:ext cx="50760" cy="811080"/>
                  <a:chOff x="8290080" y="17640"/>
                  <a:chExt cx="50760" cy="811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2900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900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534440" y="17640"/>
                  <a:ext cx="733320" cy="811080"/>
                  <a:chOff x="7534440" y="17640"/>
                  <a:chExt cx="733320" cy="811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7872480" y="176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534440" y="3952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502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872480" y="4730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451640" y="17640"/>
                  <a:ext cx="49320" cy="811080"/>
                  <a:chOff x="7451640" y="17640"/>
                  <a:chExt cx="49320" cy="811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7451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451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697800" y="17640"/>
                  <a:ext cx="731880" cy="811080"/>
                  <a:chOff x="6697800" y="17640"/>
                  <a:chExt cx="731880" cy="811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340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9780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1136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40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15000" y="17640"/>
                  <a:ext cx="49320" cy="811080"/>
                  <a:chOff x="6615000" y="17640"/>
                  <a:chExt cx="49320" cy="8110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615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615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5859360" y="17640"/>
                  <a:ext cx="733680" cy="811080"/>
                  <a:chOff x="5859360" y="17640"/>
                  <a:chExt cx="733680" cy="811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19776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5936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75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19776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778360" y="17640"/>
                  <a:ext cx="49320" cy="811080"/>
                  <a:chOff x="5778360" y="17640"/>
                  <a:chExt cx="49320" cy="811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778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778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022720" y="17640"/>
                  <a:ext cx="731880" cy="811080"/>
                  <a:chOff x="5022720" y="17640"/>
                  <a:chExt cx="731880" cy="8110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35932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227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4388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35932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4941720" y="17640"/>
                  <a:ext cx="49320" cy="811080"/>
                  <a:chOff x="4941720" y="17640"/>
                  <a:chExt cx="49320" cy="8110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9417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9417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4184640" y="17640"/>
                  <a:ext cx="733320" cy="811080"/>
                  <a:chOff x="4184640" y="17640"/>
                  <a:chExt cx="733320" cy="8110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522680" y="176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1846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6004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522680" y="4730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103640" y="17640"/>
                  <a:ext cx="49320" cy="811080"/>
                  <a:chOff x="4103640" y="17640"/>
                  <a:chExt cx="49320" cy="811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103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103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348000" y="17640"/>
                  <a:ext cx="731880" cy="811080"/>
                  <a:chOff x="3348000" y="17640"/>
                  <a:chExt cx="731880" cy="8110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846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3480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7638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6846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267000" y="17640"/>
                  <a:ext cx="49320" cy="811080"/>
                  <a:chOff x="3267000" y="17640"/>
                  <a:chExt cx="49320" cy="8110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67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267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509920" y="17640"/>
                  <a:ext cx="733320" cy="811080"/>
                  <a:chOff x="2509920" y="17640"/>
                  <a:chExt cx="733320" cy="811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8479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5099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9257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8479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430360" y="17640"/>
                  <a:ext cx="49320" cy="811080"/>
                  <a:chOff x="2430360" y="17640"/>
                  <a:chExt cx="49320" cy="8110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430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430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1673280" y="17640"/>
                  <a:ext cx="731880" cy="811080"/>
                  <a:chOff x="1673280" y="17640"/>
                  <a:chExt cx="731880" cy="8110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20113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6732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8908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113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1592280" y="17640"/>
                  <a:ext cx="50760" cy="811080"/>
                  <a:chOff x="1592280" y="17640"/>
                  <a:chExt cx="50760" cy="8110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5922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922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117324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5200" y="3952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51000" y="3952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7324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-1440" y="17640"/>
                  <a:ext cx="731520" cy="6742080"/>
                  <a:chOff x="-1440" y="17640"/>
                  <a:chExt cx="731520" cy="674208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-1440" y="17640"/>
                    <a:ext cx="731520" cy="811080"/>
                    <a:chOff x="-1440" y="17640"/>
                    <a:chExt cx="731520" cy="8110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34800" y="47304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334800" y="176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-1440" y="395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12920" y="395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-1440" y="852480"/>
                    <a:ext cx="731520" cy="54000"/>
                    <a:chOff x="-1440" y="852480"/>
                    <a:chExt cx="731520" cy="5400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-1440" y="85248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12920" y="85248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-1440" y="928800"/>
                    <a:ext cx="731520" cy="812520"/>
                    <a:chOff x="-1440" y="928800"/>
                    <a:chExt cx="731520" cy="8125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34800" y="92880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-1440" y="130824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12920" y="130824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4800" y="13874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-1440" y="1763640"/>
                    <a:ext cx="731520" cy="55800"/>
                    <a:chOff x="-1440" y="1763640"/>
                    <a:chExt cx="731520" cy="558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-1440" y="176364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12920" y="176364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-1440" y="1843200"/>
                    <a:ext cx="731520" cy="809640"/>
                    <a:chOff x="-1440" y="1843200"/>
                    <a:chExt cx="731520" cy="8096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34800" y="184320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-1440" y="2219400"/>
                      <a:ext cx="3157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12920" y="2219400"/>
                      <a:ext cx="31716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34800" y="229860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-1440" y="2676600"/>
                    <a:ext cx="731520" cy="55440"/>
                    <a:chOff x="-1440" y="2676600"/>
                    <a:chExt cx="731520" cy="554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-1440" y="267660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12920" y="267660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-1440" y="2754360"/>
                    <a:ext cx="731520" cy="812880"/>
                    <a:chOff x="-1440" y="2754360"/>
                    <a:chExt cx="731520" cy="812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34800" y="27543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-1440" y="31320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412920" y="31320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34800" y="3209760"/>
                      <a:ext cx="51120" cy="3574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-1440" y="3589200"/>
                    <a:ext cx="731520" cy="55800"/>
                    <a:chOff x="-1440" y="3589200"/>
                    <a:chExt cx="731520" cy="558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-1440" y="35892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2920" y="35892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-1440" y="3668760"/>
                    <a:ext cx="731520" cy="809640"/>
                    <a:chOff x="-1440" y="3668760"/>
                    <a:chExt cx="731520" cy="8096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334800" y="36687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-1440" y="404496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12920" y="404496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34800" y="412416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-1440" y="4500720"/>
                    <a:ext cx="731520" cy="56880"/>
                    <a:chOff x="-1440" y="4500720"/>
                    <a:chExt cx="731520" cy="568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-1440" y="4500720"/>
                      <a:ext cx="31572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2920" y="4500720"/>
                      <a:ext cx="31716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-1440" y="4579920"/>
                    <a:ext cx="731520" cy="809640"/>
                    <a:chOff x="-1440" y="4579920"/>
                    <a:chExt cx="731520" cy="8096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4800" y="457992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-1440" y="49579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12920" y="49579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34800" y="503568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-1440" y="5413320"/>
                    <a:ext cx="731520" cy="55440"/>
                    <a:chOff x="-1440" y="5413320"/>
                    <a:chExt cx="731520" cy="554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-1440" y="54133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12920" y="54133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-1440" y="5491080"/>
                    <a:ext cx="731520" cy="812880"/>
                    <a:chOff x="-1440" y="5491080"/>
                    <a:chExt cx="731520" cy="8128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4800" y="549108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-1440" y="587052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12920" y="587052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334800" y="594828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-1440" y="6326280"/>
                    <a:ext cx="731520" cy="433440"/>
                    <a:chOff x="-1440" y="6326280"/>
                    <a:chExt cx="731520" cy="433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34800" y="640548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-1440" y="6326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12920" y="6326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8372520" y="932040"/>
                  <a:ext cx="731880" cy="811080"/>
                  <a:chOff x="8372520" y="932040"/>
                  <a:chExt cx="731880" cy="811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870912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372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7883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70912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290080" y="932040"/>
                  <a:ext cx="50760" cy="811080"/>
                  <a:chOff x="8290080" y="932040"/>
                  <a:chExt cx="50760" cy="8110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82900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2900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534440" y="932040"/>
                  <a:ext cx="733320" cy="811080"/>
                  <a:chOff x="7534440" y="932040"/>
                  <a:chExt cx="733320" cy="8110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7872480" y="9320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53444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9502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872480" y="13874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451640" y="932040"/>
                  <a:ext cx="49320" cy="811080"/>
                  <a:chOff x="7451640" y="932040"/>
                  <a:chExt cx="49320" cy="8110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7451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451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697800" y="932040"/>
                  <a:ext cx="731880" cy="811080"/>
                  <a:chOff x="6697800" y="932040"/>
                  <a:chExt cx="731880" cy="81108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70340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9780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1136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0340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615000" y="932040"/>
                  <a:ext cx="49320" cy="811080"/>
                  <a:chOff x="6615000" y="932040"/>
                  <a:chExt cx="49320" cy="8110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615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615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859360" y="932040"/>
                  <a:ext cx="733680" cy="811080"/>
                  <a:chOff x="5859360" y="932040"/>
                  <a:chExt cx="733680" cy="81108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19776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85936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275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19776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778360" y="932040"/>
                  <a:ext cx="49320" cy="811080"/>
                  <a:chOff x="5778360" y="932040"/>
                  <a:chExt cx="49320" cy="8110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778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778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5022720" y="932040"/>
                  <a:ext cx="731880" cy="811080"/>
                  <a:chOff x="5022720" y="932040"/>
                  <a:chExt cx="731880" cy="8110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35932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0227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4388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35932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4941720" y="932040"/>
                  <a:ext cx="49320" cy="811080"/>
                  <a:chOff x="4941720" y="932040"/>
                  <a:chExt cx="49320" cy="8110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49417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9417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184640" y="932040"/>
                  <a:ext cx="733320" cy="811080"/>
                  <a:chOff x="4184640" y="932040"/>
                  <a:chExt cx="733320" cy="8110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522680" y="9320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1846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6004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522680" y="13874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4103640" y="932040"/>
                  <a:ext cx="49320" cy="811080"/>
                  <a:chOff x="4103640" y="932040"/>
                  <a:chExt cx="49320" cy="8110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4103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03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3348000" y="932040"/>
                  <a:ext cx="731880" cy="811080"/>
                  <a:chOff x="3348000" y="932040"/>
                  <a:chExt cx="731880" cy="8110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6846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3480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7638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6846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3267000" y="932040"/>
                  <a:ext cx="49320" cy="811080"/>
                  <a:chOff x="3267000" y="932040"/>
                  <a:chExt cx="49320" cy="8110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3267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67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509920" y="932040"/>
                  <a:ext cx="733320" cy="811080"/>
                  <a:chOff x="2509920" y="932040"/>
                  <a:chExt cx="733320" cy="8110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28479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5099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9257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8479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2430360" y="932040"/>
                  <a:ext cx="49320" cy="811080"/>
                  <a:chOff x="2430360" y="932040"/>
                  <a:chExt cx="49320" cy="8110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430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430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673280" y="932040"/>
                  <a:ext cx="731880" cy="811080"/>
                  <a:chOff x="1673280" y="932040"/>
                  <a:chExt cx="731880" cy="8110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0113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6732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8908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13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1592280" y="932040"/>
                  <a:ext cx="50760" cy="811080"/>
                  <a:chOff x="1592280" y="932040"/>
                  <a:chExt cx="50760" cy="811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5922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5922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835200" y="932040"/>
                  <a:ext cx="733320" cy="811080"/>
                  <a:chOff x="835200" y="932040"/>
                  <a:chExt cx="733320" cy="8110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17324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520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25100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17324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>
                  <a:off x="835200" y="8524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51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79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0988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178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368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559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7749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194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13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324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4514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8705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895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086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28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5470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660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851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8041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5200" y="1771560"/>
                  <a:ext cx="31716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51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79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0988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178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368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559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749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194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13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324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4514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705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895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7086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128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470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660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3851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8041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63560" y="1905120"/>
                <a:ext cx="8367840" cy="4938480"/>
                <a:chOff x="763560" y="1905120"/>
                <a:chExt cx="8367840" cy="4938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66800" y="190512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3560" y="1905120"/>
                  <a:ext cx="0" cy="493848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eavenwords.com/Articles/Daniel/figure_5_kings_neo_babylon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Remnant Shall Retur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Quarter 8, Lesson 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g.59-6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an. 5,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Hostile Plan -6:1-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Holy Man – 6:10-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earless of men and devoted to God –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eartless plotters, reporting to the king -11-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rius looks for a legal loophole for Daniel but cannot find one – 14-1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niel must be thrown to the lion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1351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747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Heavenly Plan – 6:16-2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rius’ concern – 16-1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rius’ early morning cry: “Was God able to save you?” 19-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niel’s answer: God shut the lion’s mouth -21-2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King’s command – 23-2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bout Daniel: Remove him from the lion’s d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bout Daniel’s foes: Throw them to the lion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About Daniel’s God: All are to fear and reverence Daniel’s Go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054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13372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Where We Are In the Lesson Today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3886200"/>
            <a:ext cx="304920" cy="990720"/>
          </a:xfrm>
          <a:prstGeom prst="rec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638680" y="434340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elshazzar was second in command, under his father, Nabonidu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028840" y="4266720"/>
            <a:ext cx="6858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aniel 5-6 describes this time – 539BC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181120" y="2514600"/>
            <a:ext cx="38124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Kings_of_NeoBab_Empire_sm.jpg (8729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890640"/>
            <a:ext cx="8381880" cy="55832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858000" y="5105520"/>
            <a:ext cx="19051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8841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676520" y="228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Setting of the Story is in Babyl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4267080"/>
            <a:ext cx="121896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God’s Hand At Dinner – 5:1-3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Ball – 5: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Belshazzar invites a thousand officers to a great fea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Gall – 5:2-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Using the vessels Nebuchadnezzar took from the Jerusalem Temp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Drinking wine from the vessels in praise of the Babylonian gods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Wall – 5:5-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A hand writes on the wall and totally unnerves Belshazza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5715000" cy="46483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6629400" y="1066680"/>
            <a:ext cx="2362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Mene – to number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Tekel – to weigh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Peres – to divide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Upharsin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971800"/>
            <a:ext cx="22096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Interpretation: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God has numbered your kingdom and brought it to an end; you have been weighed upon the scales and been found lacking; your kingdom is separated from you and given to the Persians”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God’s Hand At Dinner – 5:1-3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Call – 5:7-2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To the magicians – 7-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Times New Roman"/>
              </a:rPr>
              <a:t>To the prophet – 10-2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Daniel recommended to Belshazzar -10-12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King offers to promote Daniel – 13-16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Daniel refuses the offer, but interprets the writing -17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He rebukes Belshazzar’s audacity  (18-23) an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Tells of Medo-Persian take-over  24-28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Too late to honor God’s prophet – 29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he Fall – 5:30-31  - Darius the Mede kills Belshazzar and takes over the city that very nigh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The_Great_Babylon_med.jpg (20999 bytes)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 flipH="1" flipV="1">
            <a:off x="5943240" y="5486400"/>
            <a:ext cx="60948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105160" y="1676520"/>
            <a:ext cx="1522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19320" y="152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Darius Diverted the River and Entered in Both North and South Locations of the River Entering and Leaving the City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niel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 Hostile Plan -6:1-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et rid of Daniel, exalted friend of Dariu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 Tricking Darius into signing a decree that traps Dani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decree forbade acknowledgement of any god or man but Darius for 30 days – 6: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aniel decides that God’s will is higher than man’s will, and prays in his usual fashion – 3 times a day -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21351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7478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5:03:12Z</dcterms:created>
  <dc:creator> Tab Vines</dc:creator>
  <dc:description/>
  <dc:language>en-US</dc:language>
  <cp:lastModifiedBy>Frank D Vines</cp:lastModifiedBy>
  <dcterms:modified xsi:type="dcterms:W3CDTF">2006-02-04T19:35:47Z</dcterms:modified>
  <cp:revision>3</cp:revision>
  <dc:subject/>
  <dc:title>A Remnant Shall Return</dc:title>
</cp:coreProperties>
</file>